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7621588"/>
  <p:notesSz cx="7105650" cy="10237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AAD9-0F8F-41B0-B36A-B79D285F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7788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220176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59000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B6FF-DC01-4503-A1EB-0EF90BDF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7788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2201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2201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59000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59000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272E-0B6F-4016-B64F-D54E872E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7788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2201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2201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220176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59000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59000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59000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C2CB-5888-40DF-AA0D-F02961C4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7788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220176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7486-103B-48F5-B072-2F54C37E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7788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220176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E566-EEAA-4A66-A7F8-B89BD900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7788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220176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220176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603-7055-4BF0-AF19-AD33C169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7788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B876-D325-4BA1-B5DB-119C2281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77880"/>
            <a:ext cx="84200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D1C-9C3C-4B5C-8219-8EF71206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7788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2201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220176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59000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E62-244A-4FD3-B5E7-A49084C1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7788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220176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2201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59000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3EE-E0AA-48B7-A9C2-9FC1AD4B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7788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2201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220176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59000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95CB-0C8C-47B3-AE04-6CAC5F58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7788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220176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6200" indent="-3762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42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2440" indent="-2505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25056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52520" indent="-2491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52520" indent="-2491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52520" indent="-2491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941880"/>
            <a:ext cx="206352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941880"/>
            <a:ext cx="313668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941880"/>
            <a:ext cx="2063880" cy="507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A3163E0C-B753-4DDD-92DD-1C28CF62A06B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905760" cy="7643520"/>
            <a:chOff x="0" y="0"/>
            <a:chExt cx="9905760" cy="764352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577800" cy="755028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0240" rIns="120240" tIns="60120" bIns="6012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it-IT" sz="13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1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it-IT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7111080"/>
              <a:ext cx="9905760" cy="53244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0240" rIns="120240" tIns="60120" bIns="6012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ancma" descr=""/>
            <p:cNvPicPr/>
            <p:nvPr/>
          </p:nvPicPr>
          <p:blipFill>
            <a:blip r:embed="rId1"/>
            <a:stretch/>
          </p:blipFill>
          <p:spPr>
            <a:xfrm>
              <a:off x="0" y="6234120"/>
              <a:ext cx="165060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1733400" y="7111080"/>
              <a:ext cx="34668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0240" rIns="120240" tIns="60120" bIns="6012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650960" y="2709720"/>
            <a:ext cx="734688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3100" spc="-1" strike="noStrike">
                <a:solidFill>
                  <a:srgbClr val="3366ff"/>
                </a:solidFill>
                <a:latin typeface="Tahoma"/>
                <a:ea typeface="Times New Roman"/>
              </a:rPr>
              <a:t>MOPED EMISSION FACTO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3100" spc="-1" strike="noStrike">
                <a:solidFill>
                  <a:srgbClr val="3333cc"/>
                </a:solidFill>
                <a:latin typeface="Tahoma"/>
                <a:ea typeface="Times New Roman"/>
              </a:rPr>
              <a:t> 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Times New Roman"/>
              </a:rPr>
              <a:t>NON REGULATED POLLUT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Times New Roman"/>
              </a:rPr>
              <a:t>PARTICULATE MAT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olo Albur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Roma, 16 gennaio 200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5200" y="21477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ncma Verde" descr=""/>
          <p:cNvPicPr/>
          <p:nvPr/>
        </p:nvPicPr>
        <p:blipFill>
          <a:blip r:embed="rId2"/>
          <a:stretch/>
        </p:blipFill>
        <p:spPr>
          <a:xfrm>
            <a:off x="4292640" y="84240"/>
            <a:ext cx="2063880" cy="1674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7800" y="1778040"/>
            <a:ext cx="93283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ntique Olive"/>
                <a:ea typeface="Times New Roman"/>
              </a:rPr>
              <a:t>Associazione Nazionale Ciclo Motociclo Accessor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0240" y="2624040"/>
            <a:ext cx="908064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0240" y="4741920"/>
            <a:ext cx="9080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43040" y="1158840"/>
            <a:ext cx="8832600" cy="50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 scopo di individuare l’ordine di grandezza delle emissioni di particolato dei ciclomotori, sono stati testat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 ciclomotori usa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n percorrenza media d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irca 6.500k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itenuti rappresentativi delle tecnologie attualmente disponibili sul mercato, dal tipo “convenzionale” (2-tempi a carburazione non catalizzato) ai tipi più “avanzati” (2-tempi ad iniezione diretta e 4-temp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’analoga ricerca sui motocicli è stata condotta da ACEM (Associazione dei Costruttori Europei di Motocicl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7800" y="846000"/>
            <a:ext cx="93283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0"/>
            <a:ext cx="9906120" cy="7643880"/>
            <a:chOff x="0" y="0"/>
            <a:chExt cx="9906120" cy="7643880"/>
          </a:xfrm>
        </p:grpSpPr>
        <p:sp>
          <p:nvSpPr>
            <p:cNvPr id="55" name=""/>
            <p:cNvSpPr/>
            <p:nvPr/>
          </p:nvSpPr>
          <p:spPr>
            <a:xfrm>
              <a:off x="0" y="338040"/>
              <a:ext cx="990612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>
                <a:lnSpc>
                  <a:spcPct val="75000"/>
                </a:lnSpc>
                <a:spcBef>
                  <a:spcPts val="206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	</a:t>
              </a: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Moped Emission Factors: Particulate matter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0"/>
              <a:ext cx="9906120" cy="7643880"/>
              <a:chOff x="0" y="0"/>
              <a:chExt cx="9906120" cy="7643880"/>
            </a:xfrm>
          </p:grpSpPr>
          <p:sp>
            <p:nvSpPr>
              <p:cNvPr id="57" name=""/>
              <p:cNvSpPr/>
              <p:nvPr/>
            </p:nvSpPr>
            <p:spPr>
              <a:xfrm>
                <a:off x="0" y="0"/>
                <a:ext cx="577800" cy="755028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7112160"/>
                <a:ext cx="9906120" cy="53172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" name="ancma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6235560"/>
                <a:ext cx="1650960" cy="138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1733400" y="7112160"/>
                <a:ext cx="4286520" cy="48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i="1" lang="en-US" sz="2400" spc="-1" strike="noStrike">
                    <a:solidFill>
                      <a:srgbClr val="008000"/>
                    </a:solidFill>
                    <a:latin typeface="Times New Roman"/>
                  </a:rPr>
                  <a:t>Roma, 16 gennaio 200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906120" cy="7643880"/>
            <a:chOff x="0" y="0"/>
            <a:chExt cx="9906120" cy="7643880"/>
          </a:xfrm>
        </p:grpSpPr>
        <p:sp>
          <p:nvSpPr>
            <p:cNvPr id="62" name=""/>
            <p:cNvSpPr/>
            <p:nvPr/>
          </p:nvSpPr>
          <p:spPr>
            <a:xfrm>
              <a:off x="0" y="338040"/>
              <a:ext cx="990612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>
                <a:lnSpc>
                  <a:spcPct val="75000"/>
                </a:lnSpc>
                <a:spcBef>
                  <a:spcPts val="206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	</a:t>
              </a: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Moped Emission Factors: Particulate matter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0" y="0"/>
              <a:ext cx="9906120" cy="7643880"/>
              <a:chOff x="0" y="0"/>
              <a:chExt cx="9906120" cy="764388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577800" cy="755028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7112160"/>
                <a:ext cx="9906120" cy="53172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" name="ancma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6235560"/>
                <a:ext cx="1650960" cy="138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1733400" y="7112160"/>
                <a:ext cx="4286520" cy="48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i="1" lang="en-US" sz="2400" spc="-1" strike="noStrike">
                    <a:solidFill>
                      <a:srgbClr val="008000"/>
                    </a:solidFill>
                    <a:latin typeface="Times New Roman"/>
                  </a:rPr>
                  <a:t>Roma, 16 gennaio 200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577800" y="846000"/>
            <a:ext cx="93283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3040" y="1158840"/>
            <a:ext cx="883260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misurazione gravimetrica della massa di particolato emesso durante il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ciclo dinamico ECE-47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è stata eseguita secondo le prescrizioni della direttiva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91/441/CE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relativa agli autoveicoli, opportunamente modificate. Sono quindi stati prelevati, in condizioni di isocinetismo, in un mini tunnel di diluizione (d=97mm, L=160cm), flussi di gas di scarico che, inviati su filtri “pallflex”, depositano il particolato. Durante l’esecuzione del ciclo di guida, il gas è stato inviato su due diverse serie di filtri per individuare il quantitativo prodotto durante le prime 4 rampe (simulazione della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partenza a fredd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e le ultime 4 rampe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simulazione della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partenza a cald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del cicl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9906120" cy="7643880"/>
            <a:chOff x="0" y="0"/>
            <a:chExt cx="9906120" cy="7643880"/>
          </a:xfrm>
        </p:grpSpPr>
        <p:sp>
          <p:nvSpPr>
            <p:cNvPr id="71" name=""/>
            <p:cNvSpPr/>
            <p:nvPr/>
          </p:nvSpPr>
          <p:spPr>
            <a:xfrm>
              <a:off x="0" y="338040"/>
              <a:ext cx="990612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>
                <a:lnSpc>
                  <a:spcPct val="75000"/>
                </a:lnSpc>
                <a:spcBef>
                  <a:spcPts val="206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	</a:t>
              </a: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Moped Emission Factors: Particulate matter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0" y="0"/>
              <a:ext cx="9906120" cy="7643880"/>
              <a:chOff x="0" y="0"/>
              <a:chExt cx="9906120" cy="7643880"/>
            </a:xfrm>
          </p:grpSpPr>
          <p:sp>
            <p:nvSpPr>
              <p:cNvPr id="73" name=""/>
              <p:cNvSpPr/>
              <p:nvPr/>
            </p:nvSpPr>
            <p:spPr>
              <a:xfrm>
                <a:off x="0" y="0"/>
                <a:ext cx="577800" cy="755028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7112160"/>
                <a:ext cx="9906120" cy="53172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5" name="ancma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6235560"/>
                <a:ext cx="1650960" cy="138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1733400" y="7112160"/>
                <a:ext cx="4286520" cy="48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i="1" lang="en-US" sz="2400" spc="-1" strike="noStrike">
                    <a:solidFill>
                      <a:srgbClr val="008000"/>
                    </a:solidFill>
                    <a:latin typeface="Times New Roman"/>
                  </a:rPr>
                  <a:t>Roma, 16 gennaio 200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"/>
          <p:cNvSpPr/>
          <p:nvPr/>
        </p:nvSpPr>
        <p:spPr>
          <a:xfrm>
            <a:off x="577800" y="846000"/>
            <a:ext cx="93283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3040" y="1158840"/>
            <a:ext cx="883260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temporaneamente sono state misurate le emissioni gassose “regolamentate” (CO, HC, NO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pesatura dei filtri, dopo 24h di permanenza in essiccatore con gel di silice, fornisce la massa di particolato su di essi deposita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Ogni veicolo è stato testato 4 vol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prove ANCMA sono state eseguite presso Stazione Sperimentale Combustibili di S. Donato (MI), le prove ACEM presso Ricardo (UK), utilizzando la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trumentazione di misura ed analisi impiegata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 le prove di omologazione dei veicol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906120" cy="7643880"/>
            <a:chOff x="0" y="0"/>
            <a:chExt cx="9906120" cy="7643880"/>
          </a:xfrm>
        </p:grpSpPr>
        <p:sp>
          <p:nvSpPr>
            <p:cNvPr id="80" name=""/>
            <p:cNvSpPr/>
            <p:nvPr/>
          </p:nvSpPr>
          <p:spPr>
            <a:xfrm>
              <a:off x="0" y="338040"/>
              <a:ext cx="990612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>
                <a:lnSpc>
                  <a:spcPct val="75000"/>
                </a:lnSpc>
                <a:spcBef>
                  <a:spcPts val="206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	</a:t>
              </a: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Moped Emission Factors: Particulate matter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0" y="0"/>
              <a:ext cx="9906120" cy="7643880"/>
              <a:chOff x="0" y="0"/>
              <a:chExt cx="9906120" cy="7643880"/>
            </a:xfrm>
          </p:grpSpPr>
          <p:sp>
            <p:nvSpPr>
              <p:cNvPr id="82" name=""/>
              <p:cNvSpPr/>
              <p:nvPr/>
            </p:nvSpPr>
            <p:spPr>
              <a:xfrm>
                <a:off x="0" y="0"/>
                <a:ext cx="577800" cy="755028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7112160"/>
                <a:ext cx="9906120" cy="53172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4" name="ancma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6235560"/>
                <a:ext cx="1650960" cy="138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1733400" y="7112160"/>
                <a:ext cx="4286520" cy="48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i="1" lang="en-US" sz="2400" spc="-1" strike="noStrike">
                    <a:solidFill>
                      <a:srgbClr val="008000"/>
                    </a:solidFill>
                    <a:latin typeface="Times New Roman"/>
                  </a:rPr>
                  <a:t>Roma, 16 gennaio 200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577800" y="846000"/>
            <a:ext cx="93283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20880" y="6405480"/>
            <a:ext cx="88326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MA GENERALE DEL SISTEMA DI MIS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ssc2-2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8534160" cy="5378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9906120" cy="7643880"/>
            <a:chOff x="0" y="0"/>
            <a:chExt cx="9906120" cy="7643880"/>
          </a:xfrm>
        </p:grpSpPr>
        <p:sp>
          <p:nvSpPr>
            <p:cNvPr id="90" name=""/>
            <p:cNvSpPr/>
            <p:nvPr/>
          </p:nvSpPr>
          <p:spPr>
            <a:xfrm>
              <a:off x="0" y="338040"/>
              <a:ext cx="990612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>
                <a:lnSpc>
                  <a:spcPct val="75000"/>
                </a:lnSpc>
                <a:spcBef>
                  <a:spcPts val="206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	</a:t>
              </a: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Moped Emission Factors: Particulate matter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0" y="0"/>
              <a:ext cx="9906120" cy="7643880"/>
              <a:chOff x="0" y="0"/>
              <a:chExt cx="9906120" cy="7643880"/>
            </a:xfrm>
          </p:grpSpPr>
          <p:sp>
            <p:nvSpPr>
              <p:cNvPr id="92" name=""/>
              <p:cNvSpPr/>
              <p:nvPr/>
            </p:nvSpPr>
            <p:spPr>
              <a:xfrm>
                <a:off x="0" y="0"/>
                <a:ext cx="577800" cy="755028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7112160"/>
                <a:ext cx="9906120" cy="53172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4" name="ancma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6235560"/>
                <a:ext cx="1650960" cy="138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1733400" y="7112160"/>
                <a:ext cx="4286520" cy="48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i="1" lang="en-US" sz="2400" spc="-1" strike="noStrike">
                    <a:solidFill>
                      <a:srgbClr val="008000"/>
                    </a:solidFill>
                    <a:latin typeface="Times New Roman"/>
                  </a:rPr>
                  <a:t>Roma, 16 gennaio 200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"/>
          <p:cNvSpPr/>
          <p:nvPr/>
        </p:nvSpPr>
        <p:spPr>
          <a:xfrm>
            <a:off x="577800" y="846000"/>
            <a:ext cx="93283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14400" y="1614600"/>
          <a:ext cx="8686800" cy="2347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614600"/>
                    <a:ext cx="86868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13800" y="92880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RISULT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4132440"/>
          <a:ext cx="8705880" cy="20397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4132440"/>
                    <a:ext cx="870588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906120" cy="7643880"/>
            <a:chOff x="0" y="0"/>
            <a:chExt cx="9906120" cy="7643880"/>
          </a:xfrm>
        </p:grpSpPr>
        <p:sp>
          <p:nvSpPr>
            <p:cNvPr id="103" name=""/>
            <p:cNvSpPr/>
            <p:nvPr/>
          </p:nvSpPr>
          <p:spPr>
            <a:xfrm>
              <a:off x="0" y="338040"/>
              <a:ext cx="990612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>
                <a:lnSpc>
                  <a:spcPct val="75000"/>
                </a:lnSpc>
                <a:spcBef>
                  <a:spcPts val="206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	</a:t>
              </a: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Moped Emission Factors: Particulate matter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0" y="0"/>
              <a:ext cx="9906120" cy="7643880"/>
              <a:chOff x="0" y="0"/>
              <a:chExt cx="9906120" cy="7643880"/>
            </a:xfrm>
          </p:grpSpPr>
          <p:sp>
            <p:nvSpPr>
              <p:cNvPr id="105" name=""/>
              <p:cNvSpPr/>
              <p:nvPr/>
            </p:nvSpPr>
            <p:spPr>
              <a:xfrm>
                <a:off x="0" y="0"/>
                <a:ext cx="577800" cy="755028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7112160"/>
                <a:ext cx="9906120" cy="53172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7" name="ancma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6235560"/>
                <a:ext cx="1650960" cy="138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1733400" y="7112160"/>
                <a:ext cx="4286520" cy="48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i="1" lang="en-US" sz="2400" spc="-1" strike="noStrike">
                    <a:solidFill>
                      <a:srgbClr val="008000"/>
                    </a:solidFill>
                    <a:latin typeface="Times New Roman"/>
                  </a:rPr>
                  <a:t>Roma, 16 gennaio 200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577800" y="846000"/>
            <a:ext cx="93283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-152280" y="1219320"/>
          <a:ext cx="11277360" cy="5840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2280" y="1219320"/>
                    <a:ext cx="11277360" cy="58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613800" y="92880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RISULT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906120" cy="7643880"/>
            <a:chOff x="0" y="0"/>
            <a:chExt cx="9906120" cy="7643880"/>
          </a:xfrm>
        </p:grpSpPr>
        <p:sp>
          <p:nvSpPr>
            <p:cNvPr id="114" name=""/>
            <p:cNvSpPr/>
            <p:nvPr/>
          </p:nvSpPr>
          <p:spPr>
            <a:xfrm>
              <a:off x="0" y="338040"/>
              <a:ext cx="990612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>
                <a:lnSpc>
                  <a:spcPct val="75000"/>
                </a:lnSpc>
                <a:spcBef>
                  <a:spcPts val="206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	</a:t>
              </a: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Moped Emission Factors: Particulate matter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0"/>
              <a:ext cx="9906120" cy="7643880"/>
              <a:chOff x="0" y="0"/>
              <a:chExt cx="9906120" cy="764388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0"/>
                <a:ext cx="577800" cy="755028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7112160"/>
                <a:ext cx="9906120" cy="53172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8" name="ancma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6235560"/>
                <a:ext cx="1650960" cy="138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1733400" y="7112160"/>
                <a:ext cx="4286520" cy="48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i="1" lang="en-US" sz="2400" spc="-1" strike="noStrike">
                    <a:solidFill>
                      <a:srgbClr val="008000"/>
                    </a:solidFill>
                    <a:latin typeface="Times New Roman"/>
                  </a:rPr>
                  <a:t>Roma, 16 gennaio 200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577800" y="846000"/>
            <a:ext cx="93283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395280"/>
          <a:ext cx="9953640" cy="6829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95280"/>
                    <a:ext cx="995364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9906120" cy="7643880"/>
            <a:chOff x="0" y="0"/>
            <a:chExt cx="9906120" cy="7643880"/>
          </a:xfrm>
        </p:grpSpPr>
        <p:sp>
          <p:nvSpPr>
            <p:cNvPr id="124" name=""/>
            <p:cNvSpPr/>
            <p:nvPr/>
          </p:nvSpPr>
          <p:spPr>
            <a:xfrm>
              <a:off x="0" y="338040"/>
              <a:ext cx="990612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>
                <a:lnSpc>
                  <a:spcPct val="75000"/>
                </a:lnSpc>
                <a:spcBef>
                  <a:spcPts val="2064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	</a:t>
              </a:r>
              <a:r>
                <a:rPr b="0" lang="en-GB" sz="3300" spc="-1" strike="noStrike">
                  <a:solidFill>
                    <a:srgbClr val="3366ff"/>
                  </a:solidFill>
                  <a:latin typeface="Arial"/>
                </a:rPr>
                <a:t>Moped Emission Factors: Particulate matter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0" y="0"/>
              <a:ext cx="9906120" cy="7643880"/>
              <a:chOff x="0" y="0"/>
              <a:chExt cx="9906120" cy="7643880"/>
            </a:xfrm>
          </p:grpSpPr>
          <p:sp>
            <p:nvSpPr>
              <p:cNvPr id="126" name=""/>
              <p:cNvSpPr/>
              <p:nvPr/>
            </p:nvSpPr>
            <p:spPr>
              <a:xfrm>
                <a:off x="0" y="0"/>
                <a:ext cx="577800" cy="755028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14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7112160"/>
                <a:ext cx="9906120" cy="53172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8" name="ancma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6235560"/>
                <a:ext cx="1650960" cy="138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1733400" y="7112160"/>
                <a:ext cx="4286520" cy="48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i="1" lang="en-US" sz="2400" spc="-1" strike="noStrike">
                    <a:solidFill>
                      <a:srgbClr val="008000"/>
                    </a:solidFill>
                    <a:latin typeface="Times New Roman"/>
                  </a:rPr>
                  <a:t>Roma, 16 gennaio 200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577800" y="846000"/>
            <a:ext cx="93283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371600"/>
            <a:ext cx="8832960" cy="56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iclomotori catalizzati abbattono il particolato di circa il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70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spetto ai ciclomotori 2 tempi “tradizionali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iclomotori di tecnologia “avanzata” abbattono il particolato di circa il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90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spetto ai ciclomotori 2 tempi “tradizionali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ssendo già oggi al di sotto del limite EURO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he entrerà in vigore nel 2005 per gli autoveicol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emissioni di particolato sembrano correlate alle emissioni di HC, per cui l’inasprimento dei limiti omologativi (Euro2, Euro3) porterà un ulterio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lioramento delle “performance” ambiental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i ciclomotori anche per il particol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4520" y="928800"/>
            <a:ext cx="26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20:47:06Z</dcterms:created>
  <dc:creator>Ancma</dc:creator>
  <dc:description/>
  <dc:language>en-US</dc:language>
  <cp:lastModifiedBy>Ancma</cp:lastModifiedBy>
  <dcterms:modified xsi:type="dcterms:W3CDTF">2003-01-15T21:38:21Z</dcterms:modified>
  <cp:revision>227</cp:revision>
  <dc:subject/>
  <dc:title>Presentazione di PowerPoint</dc:title>
</cp:coreProperties>
</file>